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086-B30D-4976-8138-57D1E25F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6D4-6435-455F-9F43-E1A6ACD7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D5F-62C7-4E44-B147-5B693048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B25-A31B-419C-88AE-28E4DE4F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4603B-BD85-4F05-99BB-76AFFEAE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089DB-658F-4EE7-B41F-3908CE02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3571C-C0B0-4749-AA9F-32607B9C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5409A-8268-4D4B-AC95-C0321208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85FC5-E95C-41C3-8D6A-8C0460E7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62A8D-176E-4AF5-8ABB-EA4C8847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28B2B-3C28-4D74-AE64-DBE56904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6B7B-C611-4DCF-9229-EA83C0D0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9A306-BF60-430D-8394-B5C050E2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2A47B-8B4B-46D7-BA64-39541A8A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B07C2-FBF9-4E3F-9C15-A8AA91DB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85E5B-1388-4D31-AF19-5D320732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17FBC-E841-48E2-AF73-0F9C2E09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0C3-8721-4ADF-844F-1D8E77F4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B0A4-A85A-43CD-958B-6BA0F30A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B15-32BD-48CE-AC51-80FF766F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CF0-A5AE-4BE0-9D0A-085358CB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A37-36BA-4135-8481-7CC455C1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CAA-761B-4743-855F-62D3CE6A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5EC-892D-4CA7-8C91-69D26DEC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145D-45E6-4B1F-8C9A-4B2B724B11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B2B6-3DFB-40E5-A54D-8E9A96956F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image" Target="../media/image5.jpeg"/><Relationship Id="rId9" Type="http://schemas.openxmlformats.org/officeDocument/2006/relationships/slide" Target=""/><Relationship Id="rId10" Type="http://schemas.openxmlformats.org/officeDocument/2006/relationships/image" Target="../media/image6.jpeg"/><Relationship Id="rId11" Type="http://schemas.openxmlformats.org/officeDocument/2006/relationships/slide" Target="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3886200" cy="1575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52280" y="3048120"/>
            <a:ext cx="4038840" cy="207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0" y="5181480"/>
            <a:ext cx="3886200" cy="1217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666880" y="685800"/>
            <a:ext cx="403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4572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klahoma Catf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723560"/>
            <a:ext cx="20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lathead Catf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1233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hannel Catf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18600"/>
            <a:ext cx="38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lue Catf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2590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0" y="1600200"/>
            <a:ext cx="2590920" cy="1042920"/>
          </a:xfrm>
          <a:custGeom>
            <a:avLst/>
            <a:gdLst>
              <a:gd name="textAreaLeft" fmla="*/ 67320 w 2590920"/>
              <a:gd name="textAreaRight" fmla="*/ 2523600 w 2590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3650" h="21600">
                <a:moveTo>
                  <a:pt x="0" y="0"/>
                </a:moveTo>
                <a:lnTo>
                  <a:pt x="53650" y="0"/>
                </a:lnTo>
                <a:lnTo>
                  <a:pt x="53650" y="21600"/>
                </a:lnTo>
                <a:lnTo>
                  <a:pt x="0" y="21600"/>
                </a:lnTo>
                <a:close/>
              </a:path>
              <a:path fill="lightenLess" w="53650" h="21600">
                <a:moveTo>
                  <a:pt x="0" y="0"/>
                </a:moveTo>
                <a:lnTo>
                  <a:pt x="53650" y="0"/>
                </a:lnTo>
                <a:lnTo>
                  <a:pt x="52250" y="1400"/>
                </a:lnTo>
                <a:lnTo>
                  <a:pt x="1400" y="1400"/>
                </a:lnTo>
                <a:close/>
              </a:path>
              <a:path fill="darken" w="53650" h="21600">
                <a:moveTo>
                  <a:pt x="53650" y="0"/>
                </a:moveTo>
                <a:lnTo>
                  <a:pt x="53650" y="21600"/>
                </a:lnTo>
                <a:lnTo>
                  <a:pt x="52250" y="20200"/>
                </a:lnTo>
                <a:lnTo>
                  <a:pt x="52250" y="1400"/>
                </a:lnTo>
                <a:close/>
              </a:path>
              <a:path fill="darkenLess" w="53650" h="21600">
                <a:moveTo>
                  <a:pt x="53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250" y="20200"/>
                </a:lnTo>
                <a:close/>
              </a:path>
              <a:path fill="lighten" w="53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0" y="3581280"/>
            <a:ext cx="3581280" cy="1043280"/>
          </a:xfrm>
          <a:custGeom>
            <a:avLst/>
            <a:gdLst>
              <a:gd name="textAreaLeft" fmla="*/ 67320 w 3581280"/>
              <a:gd name="textAreaRight" fmla="*/ 3513960 w 3581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74128" h="21600">
                <a:moveTo>
                  <a:pt x="0" y="0"/>
                </a:moveTo>
                <a:lnTo>
                  <a:pt x="74128" y="0"/>
                </a:lnTo>
                <a:lnTo>
                  <a:pt x="74128" y="21600"/>
                </a:lnTo>
                <a:lnTo>
                  <a:pt x="0" y="21600"/>
                </a:lnTo>
                <a:close/>
              </a:path>
              <a:path fill="lightenLess" w="74128" h="21600">
                <a:moveTo>
                  <a:pt x="0" y="0"/>
                </a:moveTo>
                <a:lnTo>
                  <a:pt x="74128" y="0"/>
                </a:lnTo>
                <a:lnTo>
                  <a:pt x="72729" y="1400"/>
                </a:lnTo>
                <a:lnTo>
                  <a:pt x="1400" y="1400"/>
                </a:lnTo>
                <a:close/>
              </a:path>
              <a:path fill="darken" w="74128" h="21600">
                <a:moveTo>
                  <a:pt x="74128" y="0"/>
                </a:moveTo>
                <a:lnTo>
                  <a:pt x="74128" y="21600"/>
                </a:lnTo>
                <a:lnTo>
                  <a:pt x="72729" y="20200"/>
                </a:lnTo>
                <a:lnTo>
                  <a:pt x="72729" y="1400"/>
                </a:lnTo>
                <a:close/>
              </a:path>
              <a:path fill="darkenLess" w="74128" h="21600">
                <a:moveTo>
                  <a:pt x="74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729" y="20200"/>
                </a:lnTo>
                <a:close/>
              </a:path>
              <a:path fill="lighten" w="74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5867280" y="3809880"/>
            <a:ext cx="3276720" cy="1043280"/>
          </a:xfrm>
          <a:custGeom>
            <a:avLst/>
            <a:gdLst>
              <a:gd name="textAreaLeft" fmla="*/ 67320 w 3276720"/>
              <a:gd name="textAreaRight" fmla="*/ 3209400 w 32767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67825" h="21600">
                <a:moveTo>
                  <a:pt x="0" y="0"/>
                </a:moveTo>
                <a:lnTo>
                  <a:pt x="67825" y="0"/>
                </a:lnTo>
                <a:lnTo>
                  <a:pt x="67825" y="21600"/>
                </a:lnTo>
                <a:lnTo>
                  <a:pt x="0" y="21600"/>
                </a:lnTo>
                <a:close/>
              </a:path>
              <a:path fill="lightenLess" w="67825" h="21600">
                <a:moveTo>
                  <a:pt x="0" y="0"/>
                </a:moveTo>
                <a:lnTo>
                  <a:pt x="67825" y="0"/>
                </a:lnTo>
                <a:lnTo>
                  <a:pt x="66425" y="1400"/>
                </a:lnTo>
                <a:lnTo>
                  <a:pt x="1400" y="1400"/>
                </a:lnTo>
                <a:close/>
              </a:path>
              <a:path fill="darken" w="67825" h="21600">
                <a:moveTo>
                  <a:pt x="67825" y="0"/>
                </a:moveTo>
                <a:lnTo>
                  <a:pt x="67825" y="21600"/>
                </a:lnTo>
                <a:lnTo>
                  <a:pt x="66425" y="20200"/>
                </a:lnTo>
                <a:lnTo>
                  <a:pt x="66425" y="1400"/>
                </a:lnTo>
                <a:close/>
              </a:path>
              <a:path fill="darkenLess" w="67825" h="21600">
                <a:moveTo>
                  <a:pt x="67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25" y="20200"/>
                </a:lnTo>
                <a:close/>
              </a:path>
              <a:path fill="lighten" w="67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6781680" y="1752480"/>
            <a:ext cx="1752840" cy="1308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60520" y="129528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ate Rec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9" action="ppaction://hlinksldjump"/>
          </p:cNvPr>
          <p:cNvSpPr/>
          <p:nvPr/>
        </p:nvSpPr>
        <p:spPr>
          <a:xfrm>
            <a:off x="6781680" y="1752480"/>
            <a:ext cx="1752840" cy="1295640"/>
          </a:xfrm>
          <a:custGeom>
            <a:avLst/>
            <a:gdLst>
              <a:gd name="textAreaLeft" fmla="*/ 83880 w 1752840"/>
              <a:gd name="textAreaRight" fmla="*/ 1668960 w 17528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9220" h="21600">
                <a:moveTo>
                  <a:pt x="0" y="0"/>
                </a:moveTo>
                <a:lnTo>
                  <a:pt x="29220" y="0"/>
                </a:lnTo>
                <a:lnTo>
                  <a:pt x="29220" y="21600"/>
                </a:lnTo>
                <a:lnTo>
                  <a:pt x="0" y="21600"/>
                </a:lnTo>
                <a:close/>
              </a:path>
              <a:path fill="lightenLess" w="29220" h="21600">
                <a:moveTo>
                  <a:pt x="0" y="0"/>
                </a:moveTo>
                <a:lnTo>
                  <a:pt x="29220" y="0"/>
                </a:lnTo>
                <a:lnTo>
                  <a:pt x="27820" y="1400"/>
                </a:lnTo>
                <a:lnTo>
                  <a:pt x="1400" y="1400"/>
                </a:lnTo>
                <a:close/>
              </a:path>
              <a:path fill="darken" w="29220" h="21600">
                <a:moveTo>
                  <a:pt x="29220" y="0"/>
                </a:moveTo>
                <a:lnTo>
                  <a:pt x="29220" y="21600"/>
                </a:lnTo>
                <a:lnTo>
                  <a:pt x="27820" y="20200"/>
                </a:lnTo>
                <a:lnTo>
                  <a:pt x="27820" y="1400"/>
                </a:lnTo>
                <a:close/>
              </a:path>
              <a:path fill="darkenLess" w="29220" h="21600">
                <a:moveTo>
                  <a:pt x="29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0" y="20200"/>
                </a:lnTo>
                <a:close/>
              </a:path>
              <a:path fill="lighten" w="29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19560" y="33130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opular Ba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6934320" y="3657600"/>
            <a:ext cx="1523880" cy="167652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rId11" action="ppaction://hlinksldjump"/>
          </p:cNvPr>
          <p:cNvSpPr/>
          <p:nvPr/>
        </p:nvSpPr>
        <p:spPr>
          <a:xfrm>
            <a:off x="6934320" y="3886200"/>
            <a:ext cx="1523880" cy="22860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2286000"/>
              <a:gd name="textAreaBottom" fmla="*/ 2187360 h 22860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5240" y="106668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lick Picture for more 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4495680" y="3352680"/>
            <a:ext cx="1524240" cy="1424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495680" y="2895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ov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100760" y="54936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9440" y="1752480"/>
            <a:ext cx="741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llent for stream, river, and pond f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purchased or dug up along stream and 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difficult to keep on h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627228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10800"/>
                </a:moveTo>
                <a:lnTo>
                  <a:pt x="19213" y="3794"/>
                </a:lnTo>
                <a:lnTo>
                  <a:pt x="1921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shing Vide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436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06400" y="53352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e Cat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1712880"/>
            <a:ext cx="5673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fish can exceed 100 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 areas with sand, gravel or rock bot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d on fish, mussels. Snails. Insects and cray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wning occurs in late May to early J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st in hollow logs, underwater ledges, and riv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640080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  <a:path fill="darken" w="21600" h="22783">
                <a:moveTo>
                  <a:pt x="3794" y="11392"/>
                </a:moveTo>
                <a:lnTo>
                  <a:pt x="17806" y="4385"/>
                </a:lnTo>
                <a:lnTo>
                  <a:pt x="17806" y="1839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098960" y="493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800" y="380880"/>
            <a:ext cx="30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nel Cat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0160" y="1182600"/>
            <a:ext cx="76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 in streams, ponds, and l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d on fish, mussels, insects, and cray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wn in late May to early J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st in hollow logs, underwater ledges, and mud h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ed the best tasting cat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8480" y="304920"/>
            <a:ext cx="31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thead Cat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6240" y="1146240"/>
            <a:ext cx="648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r pale yellow to near bl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ly is cream cov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 is broad and flatt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in ponds and str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 in deeper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st in brush, rocks, and submerged lo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d on crayfish, snails, insects, and muss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wn in May to early J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6172200"/>
            <a:ext cx="738360" cy="685800"/>
          </a:xfrm>
          <a:custGeom>
            <a:avLst/>
            <a:gdLst>
              <a:gd name="textAreaLeft" fmla="*/ 44280 w 738360"/>
              <a:gd name="textAreaRight" fmla="*/ 694080 w 738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1855" y="1400"/>
                </a:lnTo>
                <a:lnTo>
                  <a:pt x="1400" y="140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1855" y="20200"/>
                </a:lnTo>
                <a:lnTo>
                  <a:pt x="21855" y="140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5" y="202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5" h="21600">
                <a:moveTo>
                  <a:pt x="4621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489480" y="39672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Rec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36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6880" y="14112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 Cat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5.45 L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8320" y="2706840"/>
            <a:ext cx="23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nel Cat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.39 L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191120"/>
            <a:ext cx="183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thead Cat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1.49 L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8120" y="380880"/>
            <a:ext cx="25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r B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1800" y="13716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2438640" cy="1741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8280" y="3733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ver “stink bai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715000" y="1523880"/>
            <a:ext cx="2666880" cy="1994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461640" y="117936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n F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63080" y="39225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5867280" y="4267080"/>
            <a:ext cx="2438640" cy="18050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rId6" action="ppaction://hlinksldjump"/>
          </p:cNvPr>
          <p:cNvSpPr/>
          <p:nvPr/>
        </p:nvSpPr>
        <p:spPr>
          <a:xfrm>
            <a:off x="152280" y="1752480"/>
            <a:ext cx="2438640" cy="1752840"/>
          </a:xfrm>
          <a:custGeom>
            <a:avLst/>
            <a:gdLst>
              <a:gd name="textAreaLeft" fmla="*/ 113400 w 2438640"/>
              <a:gd name="textAreaRight" fmla="*/ 2325240 w 243864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0049" h="21600">
                <a:moveTo>
                  <a:pt x="0" y="0"/>
                </a:moveTo>
                <a:lnTo>
                  <a:pt x="30049" y="0"/>
                </a:lnTo>
                <a:lnTo>
                  <a:pt x="30049" y="21600"/>
                </a:lnTo>
                <a:lnTo>
                  <a:pt x="0" y="21600"/>
                </a:lnTo>
                <a:close/>
              </a:path>
              <a:path fill="lightenLess" w="30049" h="21600">
                <a:moveTo>
                  <a:pt x="0" y="0"/>
                </a:moveTo>
                <a:lnTo>
                  <a:pt x="30049" y="0"/>
                </a:lnTo>
                <a:lnTo>
                  <a:pt x="28649" y="1400"/>
                </a:lnTo>
                <a:lnTo>
                  <a:pt x="1400" y="1400"/>
                </a:lnTo>
                <a:close/>
              </a:path>
              <a:path fill="darken" w="30049" h="21600">
                <a:moveTo>
                  <a:pt x="30049" y="0"/>
                </a:moveTo>
                <a:lnTo>
                  <a:pt x="30049" y="21600"/>
                </a:lnTo>
                <a:lnTo>
                  <a:pt x="28649" y="20200"/>
                </a:lnTo>
                <a:lnTo>
                  <a:pt x="28649" y="1400"/>
                </a:lnTo>
                <a:close/>
              </a:path>
              <a:path fill="darkenLess" w="30049" h="21600">
                <a:moveTo>
                  <a:pt x="300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49" y="20200"/>
                </a:lnTo>
                <a:close/>
              </a:path>
              <a:path fill="lighten" w="300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7" action="ppaction://hlinksldjump"/>
          </p:cNvPr>
          <p:cNvSpPr/>
          <p:nvPr/>
        </p:nvSpPr>
        <p:spPr>
          <a:xfrm>
            <a:off x="838080" y="4114800"/>
            <a:ext cx="1119240" cy="1828800"/>
          </a:xfrm>
          <a:custGeom>
            <a:avLst/>
            <a:gdLst>
              <a:gd name="textAreaLeft" fmla="*/ 72360 w 1119240"/>
              <a:gd name="textAreaRight" fmla="*/ 1046880 w 1119240"/>
              <a:gd name="textAreaTop" fmla="*/ 72360 h 1828800"/>
              <a:gd name="textAreaBottom" fmla="*/ 1756440 h 1828800"/>
            </a:gdLst>
            <a:ahLst/>
            <a:rect l="textAreaLeft" t="textAreaTop" r="textAreaRight" b="textAreaBottom"/>
            <a:pathLst>
              <a:path w="21600" h="35289">
                <a:moveTo>
                  <a:pt x="0" y="0"/>
                </a:moveTo>
                <a:lnTo>
                  <a:pt x="21600" y="0"/>
                </a:lnTo>
                <a:lnTo>
                  <a:pt x="21600" y="35289"/>
                </a:lnTo>
                <a:lnTo>
                  <a:pt x="0" y="35289"/>
                </a:lnTo>
                <a:close/>
              </a:path>
              <a:path fill="lightenLess" w="21600" h="35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289">
                <a:moveTo>
                  <a:pt x="21600" y="0"/>
                </a:moveTo>
                <a:lnTo>
                  <a:pt x="21600" y="35289"/>
                </a:lnTo>
                <a:lnTo>
                  <a:pt x="20200" y="33889"/>
                </a:lnTo>
                <a:lnTo>
                  <a:pt x="20200" y="1400"/>
                </a:lnTo>
                <a:close/>
              </a:path>
              <a:path fill="darkenLess" w="21600" h="35289">
                <a:moveTo>
                  <a:pt x="21600" y="35289"/>
                </a:moveTo>
                <a:lnTo>
                  <a:pt x="0" y="35289"/>
                </a:lnTo>
                <a:lnTo>
                  <a:pt x="1400" y="33889"/>
                </a:lnTo>
                <a:lnTo>
                  <a:pt x="20200" y="33889"/>
                </a:lnTo>
                <a:close/>
              </a:path>
              <a:path fill="lighten" w="21600" h="35289">
                <a:moveTo>
                  <a:pt x="0" y="35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8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8" action="ppaction://hlinksldjump"/>
          </p:cNvPr>
          <p:cNvSpPr/>
          <p:nvPr/>
        </p:nvSpPr>
        <p:spPr>
          <a:xfrm>
            <a:off x="5638680" y="1523880"/>
            <a:ext cx="2819520" cy="1981440"/>
          </a:xfrm>
          <a:custGeom>
            <a:avLst/>
            <a:gdLst>
              <a:gd name="textAreaLeft" fmla="*/ 128160 w 2819520"/>
              <a:gd name="textAreaRight" fmla="*/ 2691360 w 2819520"/>
              <a:gd name="textAreaTop" fmla="*/ 128160 h 1981440"/>
              <a:gd name="textAreaBottom" fmla="*/ 1853280 h 1981440"/>
            </a:gdLst>
            <a:ahLst/>
            <a:rect l="textAreaLeft" t="textAreaTop" r="textAreaRight" b="textAreaBottom"/>
            <a:pathLst>
              <a:path w="30734" h="21600">
                <a:moveTo>
                  <a:pt x="0" y="0"/>
                </a:moveTo>
                <a:lnTo>
                  <a:pt x="30734" y="0"/>
                </a:lnTo>
                <a:lnTo>
                  <a:pt x="30734" y="21600"/>
                </a:lnTo>
                <a:lnTo>
                  <a:pt x="0" y="21600"/>
                </a:lnTo>
                <a:close/>
              </a:path>
              <a:path fill="lightenLess" w="30734" h="21600">
                <a:moveTo>
                  <a:pt x="0" y="0"/>
                </a:moveTo>
                <a:lnTo>
                  <a:pt x="30734" y="0"/>
                </a:lnTo>
                <a:lnTo>
                  <a:pt x="29334" y="1400"/>
                </a:lnTo>
                <a:lnTo>
                  <a:pt x="1400" y="1400"/>
                </a:lnTo>
                <a:close/>
              </a:path>
              <a:path fill="darken" w="30734" h="21600">
                <a:moveTo>
                  <a:pt x="30734" y="0"/>
                </a:moveTo>
                <a:lnTo>
                  <a:pt x="30734" y="21600"/>
                </a:lnTo>
                <a:lnTo>
                  <a:pt x="29334" y="20200"/>
                </a:lnTo>
                <a:lnTo>
                  <a:pt x="29334" y="1400"/>
                </a:lnTo>
                <a:close/>
              </a:path>
              <a:path fill="darkenLess" w="30734" h="21600">
                <a:moveTo>
                  <a:pt x="30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4" y="20200"/>
                </a:lnTo>
                <a:close/>
              </a:path>
              <a:path fill="lighten" w="30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9" action="ppaction://hlinksldjump"/>
          </p:cNvPr>
          <p:cNvSpPr/>
          <p:nvPr/>
        </p:nvSpPr>
        <p:spPr>
          <a:xfrm>
            <a:off x="5867280" y="426708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85400" y="106668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lick Picture for more 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10" action="ppaction://hlinksldjump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86200" y="5335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1440" y="1563840"/>
            <a:ext cx="672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caught by throw net or rod and r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ier to catch under dams and moving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purchased in prepared baits and c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6324480"/>
            <a:ext cx="585720" cy="533520"/>
          </a:xfrm>
          <a:custGeom>
            <a:avLst/>
            <a:gdLst>
              <a:gd name="textAreaLeft" fmla="*/ 34560 w 585720"/>
              <a:gd name="textAreaRight" fmla="*/ 551160 w 585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712" h="21600">
                <a:moveTo>
                  <a:pt x="0" y="0"/>
                </a:moveTo>
                <a:lnTo>
                  <a:pt x="23712" y="0"/>
                </a:lnTo>
                <a:lnTo>
                  <a:pt x="23712" y="21600"/>
                </a:lnTo>
                <a:lnTo>
                  <a:pt x="0" y="21600"/>
                </a:lnTo>
                <a:close/>
              </a:path>
              <a:path fill="lightenLess" w="23712" h="21600">
                <a:moveTo>
                  <a:pt x="0" y="0"/>
                </a:moveTo>
                <a:lnTo>
                  <a:pt x="23712" y="0"/>
                </a:lnTo>
                <a:lnTo>
                  <a:pt x="22312" y="1400"/>
                </a:lnTo>
                <a:lnTo>
                  <a:pt x="1400" y="1400"/>
                </a:lnTo>
                <a:close/>
              </a:path>
              <a:path fill="darken" w="23712" h="21600">
                <a:moveTo>
                  <a:pt x="23712" y="0"/>
                </a:moveTo>
                <a:lnTo>
                  <a:pt x="23712" y="21600"/>
                </a:lnTo>
                <a:lnTo>
                  <a:pt x="22312" y="20200"/>
                </a:lnTo>
                <a:lnTo>
                  <a:pt x="22312" y="1400"/>
                </a:lnTo>
                <a:close/>
              </a:path>
              <a:path fill="darkenLess" w="23712" h="21600">
                <a:moveTo>
                  <a:pt x="23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12" y="20200"/>
                </a:lnTo>
                <a:close/>
              </a:path>
              <a:path fill="lighten" w="23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12" h="21600">
                <a:moveTo>
                  <a:pt x="4849" y="10800"/>
                </a:moveTo>
                <a:lnTo>
                  <a:pt x="18862" y="3794"/>
                </a:lnTo>
                <a:lnTo>
                  <a:pt x="1886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351240" y="436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“stink bai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34000" y="1868400"/>
            <a:ext cx="602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called chum ba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scents and flavors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nclude liver, cheese, shad, and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llent for pond f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55828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6248520"/>
            <a:ext cx="662040" cy="60948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462" h="21600">
                <a:moveTo>
                  <a:pt x="0" y="0"/>
                </a:moveTo>
                <a:lnTo>
                  <a:pt x="23462" y="0"/>
                </a:lnTo>
                <a:lnTo>
                  <a:pt x="23462" y="21600"/>
                </a:lnTo>
                <a:lnTo>
                  <a:pt x="0" y="21600"/>
                </a:lnTo>
                <a:close/>
              </a:path>
              <a:path fill="lightenLess" w="23462" h="21600">
                <a:moveTo>
                  <a:pt x="0" y="0"/>
                </a:moveTo>
                <a:lnTo>
                  <a:pt x="23462" y="0"/>
                </a:lnTo>
                <a:lnTo>
                  <a:pt x="22062" y="1400"/>
                </a:lnTo>
                <a:lnTo>
                  <a:pt x="1400" y="1400"/>
                </a:lnTo>
                <a:close/>
              </a:path>
              <a:path fill="darken" w="23462" h="21600">
                <a:moveTo>
                  <a:pt x="23462" y="0"/>
                </a:moveTo>
                <a:lnTo>
                  <a:pt x="23462" y="21600"/>
                </a:lnTo>
                <a:lnTo>
                  <a:pt x="22062" y="20200"/>
                </a:lnTo>
                <a:lnTo>
                  <a:pt x="22062" y="1400"/>
                </a:lnTo>
                <a:close/>
              </a:path>
              <a:path fill="darkenLess" w="23462" h="21600">
                <a:moveTo>
                  <a:pt x="23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62" y="20200"/>
                </a:lnTo>
                <a:close/>
              </a:path>
              <a:path fill="lighten" w="23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62" h="21600">
                <a:moveTo>
                  <a:pt x="4724" y="10800"/>
                </a:moveTo>
                <a:lnTo>
                  <a:pt x="18737" y="3794"/>
                </a:lnTo>
                <a:lnTo>
                  <a:pt x="187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098960" y="47304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n 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14160" y="1639800"/>
            <a:ext cx="731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llent for jug and trot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ily caught with light gear such as jigs and w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undant in streams and p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effective if cut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6076" y="10800"/>
                </a:moveTo>
                <a:lnTo>
                  <a:pt x="20089" y="3794"/>
                </a:lnTo>
                <a:lnTo>
                  <a:pt x="2008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0:37:30Z</dcterms:created>
  <dc:creator>Oklahoma State University</dc:creator>
  <dc:description/>
  <dc:language>en-US</dc:language>
  <cp:lastModifiedBy>jquillin</cp:lastModifiedBy>
  <dcterms:modified xsi:type="dcterms:W3CDTF">2008-04-03T14:42:05Z</dcterms:modified>
  <cp:revision>21</cp:revision>
  <dc:subject/>
  <dc:title>Slide 1</dc:title>
</cp:coreProperties>
</file>